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2F93-8B6A-4A00-AD32-F2682D1A4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36200" y="1752120"/>
            <a:ext cx="5867640" cy="2667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800" y="4495320"/>
            <a:ext cx="54864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8800" y="5092560"/>
            <a:ext cx="54864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EF92-7904-4093-A06D-07EC1693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36200" y="1752120"/>
            <a:ext cx="5867640" cy="2667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800" y="4495320"/>
            <a:ext cx="26773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400" y="4495320"/>
            <a:ext cx="26773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800" y="5092560"/>
            <a:ext cx="26773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400" y="5092560"/>
            <a:ext cx="26773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3A4E-49B4-46FA-B57A-4D98FD70A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36200" y="1752120"/>
            <a:ext cx="5867640" cy="2667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4495320"/>
            <a:ext cx="17665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3880" y="4495320"/>
            <a:ext cx="17665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39320" y="4495320"/>
            <a:ext cx="17665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8800" y="5092560"/>
            <a:ext cx="17665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3880" y="5092560"/>
            <a:ext cx="17665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39320" y="5092560"/>
            <a:ext cx="17665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C2DE-89AC-463C-AABC-CA21BA440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0305-7909-4DFE-89EB-2DB5403A4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36200" y="1752120"/>
            <a:ext cx="5867640" cy="2667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28800" y="4495320"/>
            <a:ext cx="5486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9614-A7E5-4C94-B348-531ACD9A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36200" y="1752120"/>
            <a:ext cx="5867640" cy="2667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28800" y="44953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6D9B-BB27-4198-B6C5-C0963ED5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36200" y="1752120"/>
            <a:ext cx="5867640" cy="2667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28800" y="4495320"/>
            <a:ext cx="26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400" y="4495320"/>
            <a:ext cx="26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BCD3-09E7-4FFC-A916-1904FF0B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36200" y="1752120"/>
            <a:ext cx="5867640" cy="2667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822D-4654-4BAD-A594-F1CC4070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36200" y="1752120"/>
            <a:ext cx="5867640" cy="12364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227B-4604-4BF7-8756-BE9475E5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36200" y="1752120"/>
            <a:ext cx="5867640" cy="2667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28800" y="4495320"/>
            <a:ext cx="26773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495320"/>
            <a:ext cx="26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828800" y="5092560"/>
            <a:ext cx="26773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C047-28E1-49C1-A05A-DD1C2348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36200" y="1752120"/>
            <a:ext cx="5867640" cy="2667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8800" y="4495320"/>
            <a:ext cx="5486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009D-2AAA-4FC6-8431-4B85A004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36200" y="1752120"/>
            <a:ext cx="5867640" cy="2667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28800" y="4495320"/>
            <a:ext cx="26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400" y="4495320"/>
            <a:ext cx="26773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0400" y="5092560"/>
            <a:ext cx="26773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0F17-9BEF-4AD7-890D-03FB637F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36200" y="1752120"/>
            <a:ext cx="5867640" cy="2667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28800" y="4495320"/>
            <a:ext cx="26773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400" y="4495320"/>
            <a:ext cx="26773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828800" y="5092560"/>
            <a:ext cx="54864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2CBE-7D8D-428D-B3C4-FAD3C8C4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36200" y="1752120"/>
            <a:ext cx="5867640" cy="2667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28800" y="4495320"/>
            <a:ext cx="54864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828800" y="5092560"/>
            <a:ext cx="54864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04D8-7A6C-49C9-9F8F-1950E4CE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36200" y="1752120"/>
            <a:ext cx="5867640" cy="2667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28800" y="4495320"/>
            <a:ext cx="26773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400" y="4495320"/>
            <a:ext cx="26773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28800" y="5092560"/>
            <a:ext cx="26773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0400" y="5092560"/>
            <a:ext cx="26773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75FA-A9ED-4E6E-80BB-F1F01F232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36200" y="1752120"/>
            <a:ext cx="5867640" cy="2667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28800" y="4495320"/>
            <a:ext cx="17665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83880" y="4495320"/>
            <a:ext cx="17665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39320" y="4495320"/>
            <a:ext cx="17665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828800" y="5092560"/>
            <a:ext cx="17665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83880" y="5092560"/>
            <a:ext cx="17665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39320" y="5092560"/>
            <a:ext cx="17665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4044-7ED8-48C3-A78A-4C9DB55EF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36200" y="1752120"/>
            <a:ext cx="5867640" cy="2667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8800" y="44953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6EAF-966F-4D20-B024-14D5BF52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36200" y="1752120"/>
            <a:ext cx="5867640" cy="2667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800" y="4495320"/>
            <a:ext cx="26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400" y="4495320"/>
            <a:ext cx="26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9DC6-803E-43F6-BE86-5255309B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36200" y="1752120"/>
            <a:ext cx="5867640" cy="2667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9978-2FB0-4598-8B1F-AC0B41DC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36200" y="1752120"/>
            <a:ext cx="5867640" cy="12364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A84C-E68A-437A-9276-255A3B5E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36200" y="1752120"/>
            <a:ext cx="5867640" cy="2667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4495320"/>
            <a:ext cx="26773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400" y="4495320"/>
            <a:ext cx="26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8800" y="5092560"/>
            <a:ext cx="26773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333B-A1B7-47C8-9BFB-79E383EF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36200" y="1752120"/>
            <a:ext cx="5867640" cy="2667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800" y="4495320"/>
            <a:ext cx="26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400" y="4495320"/>
            <a:ext cx="26773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400" y="5092560"/>
            <a:ext cx="26773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F3D2-0AE6-4F5A-AF2E-7A067A2E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36200" y="1752120"/>
            <a:ext cx="5867640" cy="2667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800" y="4495320"/>
            <a:ext cx="26773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400" y="4495320"/>
            <a:ext cx="26773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800" y="5092560"/>
            <a:ext cx="54864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CF81-9129-4784-8275-FA791BF6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F7C7-8218-4F64-A08E-BA3984F66F5C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36200" y="1752120"/>
            <a:ext cx="5867640" cy="2667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E146-08EA-41B9-9DD3-19E5F9E59657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Monotype Sorts" charset="2"/>
              <a:buChar char="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09480" y="304920"/>
            <a:ext cx="8016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love to do magic? Well, this contest gives you a chance to create your own magical item. Think of something that you use everyday that isn’t a magic item and turn it into one. For an example, a magical watch that takes you back in time. Draw a picture of the item and then explain what it is and what it does. Turn the picture in to your teacher by Monday, April 2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17:13:12Z</dcterms:created>
  <dc:creator>PA Department of Education</dc:creator>
  <dc:description/>
  <dc:language>en-US</dc:language>
  <cp:lastModifiedBy>PA Department of Education</cp:lastModifiedBy>
  <dcterms:modified xsi:type="dcterms:W3CDTF">2008-04-16T17:53:34Z</dcterms:modified>
  <cp:revision>1</cp:revision>
  <dc:subject/>
  <dc:title>PowerPoint Presentation</dc:title>
</cp:coreProperties>
</file>